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B19A4-5959-4DD6-AAFB-3FC6A6A1A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3108F-79C7-44A0-B536-E74EFC987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71FCA-6694-4F86-AFA1-2C4D49C9A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284EA-D0E5-4DA7-8503-4A81A378B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E873B-4EB5-40DA-879F-5849FE415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C53B3-1851-4BA2-8847-BBE200AF7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D7FB5-1854-4E72-8DA3-9E18D891C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F274D-BC74-4322-AA1E-22A08A53B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A2725-0727-4C5A-98BA-FDBCFFC64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3F039-380F-4437-8C54-6DCE49435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C8B87-DD51-4200-A937-CFD6B7E27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4529A-E2D9-4E4B-9A63-F12F50D09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00720-729F-4E3D-804E-2899E8D4C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7784F-3D31-458B-80FB-C96AE48A4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7331D-2A73-423B-9D68-CD57DCDBC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31381B-73BC-4658-9025-DD9B2B37DE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F38A9-B9D8-4E47-908A-F7BF63217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0C81E-38E6-4E2C-B53C-B2835BDB1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C3611-0203-42D4-AE8E-BDBE39DA5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65B38-1835-4167-B9D0-AC37BB0C3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B99E6-7566-4149-B997-2C75BB8D2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6C326-6CAD-4848-AD88-B35BFBA5E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B38D1-4D9F-4E24-9B21-EE0FEC1BD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F69E4-900F-4D9A-851F-925D7DD74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4F51F-EAF4-4C60-8111-846B27D5BD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3F54-CCFE-43DB-867C-27272E1B28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School Business Administration</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rategies</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xpanded applications of cost-benefit analysi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nd operate accountability systems for decentralized structur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cooperative relationships with empowered teachers, principals an staff</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 in the development of cost-effectiveness ration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 in the description of the business implications of implementing alternative educational goals that compete for scarce resourc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ise policy makers on the adaptatio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 system to describe and present fiscal accountability to the publi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Levels of Laws Guiding School Business Administration</a:t>
            </a:r>
            <a:endParaRPr b="0" lang="en-US" sz="38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constitutio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te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dge-made law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ve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Legal Concepts</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utes of the Board of Educ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ual authorit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bid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monie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system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rt and tort liabilit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ict of interes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e and sex discrimin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ASA Performance Goals</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nd maintain a positive and open learning environment to bring about the motivation an social integration of students and sta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strong local, state, and national support for educ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d deliver an effective curriculum which expands the definitions of literacy, competency, and cultural integration to include advanced technologies, problem solving, critical thinking and communication skills, and cultural enrichment for all stu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d implement effective models/modes of instructional delivery that makes the best use of time, staff, advanced technologies, community resources, and financial means to maximize student outco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rograms of continuous improvement, including evaluation of both staff and program effectiveness as keys to student leaning and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fully manage school system operations and facilities to enhance student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4 Dimensions of Governance Responsibilities</a:t>
            </a:r>
            <a:endParaRPr b="0" lang="en-US" sz="38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the vis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n infrastruct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standard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ting for sch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and make use of significant research as a basis for problem solving and program planning of all ki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cessary Skill Domains</a:t>
            </a:r>
            <a:endParaRPr b="0" lang="en-US" sz="42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v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ersona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Duties of Superintendent</a:t>
            </a:r>
            <a:br>
              <a:rPr sz="3800"/>
            </a:br>
            <a:r>
              <a:rPr b="0" lang="en-US" sz="3800" spc="-1" strike="noStrike">
                <a:solidFill>
                  <a:srgbClr val="330033"/>
                </a:solidFill>
                <a:latin typeface="Times New Roman"/>
              </a:rPr>
              <a:t> According to LEAD</a:t>
            </a:r>
            <a:endParaRPr b="0" lang="en-US" sz="38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 student growth and develo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 equality of opportunit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 a positive school climat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school improve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 improvement of classroom instruc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and manage perso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district resourc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re/provide a safe and orderly environ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 effective school-community relatio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in professional develo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 effectively to the Bo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ASA Standards</a:t>
            </a: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nd district cult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y and governanc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s and community relatio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manage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iculum planning and develo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al manage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resource manage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s and ethics of leader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Effective and Effectiveness</a:t>
            </a:r>
            <a:br>
              <a:rPr sz="3800"/>
            </a:br>
            <a:r>
              <a:rPr b="0" lang="en-US" sz="3800" spc="-1" strike="noStrike">
                <a:solidFill>
                  <a:srgbClr val="330033"/>
                </a:solidFill>
                <a:latin typeface="Times New Roman"/>
              </a:rPr>
              <a:t>Ratios</a:t>
            </a:r>
            <a:endParaRPr b="0" lang="en-US" sz="38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equals actual output divided by planned outpu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 equals standard cost divided by actual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IPP Model for Decision-Making</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 evalu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evalu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evalu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eval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taining Feedback</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dvisory committe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key communicator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ite taxpayers to lun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to what is said at meetings of service group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 wallet-size calendars to residen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people’s ideas on ta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to local call-in radi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 question session at public meeting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guidance and administrative servic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community resource fi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r receptionist keep a list of ques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church bullet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speaker’s burea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questionnaires and newsletters to publ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questions ask by reporters at news conferenc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candid with civic leader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senior popul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open for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SBO’s Code</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knowledge that the schools belong to the publ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policies and administrative roles and responsibilit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sue appropriate measures to correct laws, policies and regulations that are not consistent with sound educational goal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 the policies and practices of the district to subordinates and to the commu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Personnel Planning</a:t>
            </a:r>
            <a:br>
              <a:rPr sz="3800"/>
            </a:br>
            <a:r>
              <a:rPr b="0" lang="en-US" sz="3800" spc="-1" strike="noStrike">
                <a:solidFill>
                  <a:srgbClr val="330033"/>
                </a:solidFill>
                <a:latin typeface="Times New Roman"/>
              </a:rPr>
              <a:t>and Recruitment</a:t>
            </a:r>
            <a:endParaRPr b="0" lang="en-US" sz="3800" spc="-1" strike="noStrike">
              <a:solidFill>
                <a:srgbClr val="330033"/>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analysi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Leav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s with Disabilitie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description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on proces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orientation</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training</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ment development</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iplin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ion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ir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urchasing</a:t>
            </a:r>
            <a:endParaRPr b="0" lang="en-US" sz="4200" spc="-1" strike="noStrike">
              <a:solidFill>
                <a:srgbClr val="330033"/>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mandate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ly mandate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z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Fundamental Objectives for a Purchasing Department</a:t>
            </a:r>
            <a:endParaRPr b="0" lang="en-US" sz="3800" spc="-1" strike="noStrike">
              <a:solidFill>
                <a:srgbClr val="330033"/>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lan a program of educational materials and equipment procurement that will  optimize the educational output of the syst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intain continuity of supply to support the educational program, with the minimum inventory consistent with the educational need, safety and economic advant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void duplication, waste, and obsolescence of materials and equi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intain standards of quality in relation to suitability of 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cquire materials and equipment at the lowest cost consistent with quality and service requi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elp the educational system maintain maximum instruction efficiency at all ti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urchasing Steps</a:t>
            </a:r>
            <a:endParaRPr b="0" lang="en-US" sz="4200" spc="-1" strike="noStrike">
              <a:solidFill>
                <a:srgbClr val="330033"/>
              </a:solidFill>
              <a:latin typeface="Times New Roman"/>
            </a:endParaRPr>
          </a:p>
        </p:txBody>
      </p:sp>
      <p:sp>
        <p:nvSpPr>
          <p:cNvPr id="17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si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atio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dding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ypes of Maintenance</a:t>
            </a:r>
            <a:endParaRPr b="0" lang="en-US" sz="4200" spc="-1" strike="noStrike">
              <a:solidFill>
                <a:srgbClr val="330033"/>
              </a:solidFill>
              <a:latin typeface="Times New Roman"/>
            </a:endParaRPr>
          </a:p>
        </p:txBody>
      </p:sp>
      <p:sp>
        <p:nvSpPr>
          <p:cNvPr id="17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v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urr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chool Business </a:t>
            </a:r>
            <a:br>
              <a:rPr sz="3800"/>
            </a:br>
            <a:r>
              <a:rPr b="0" lang="en-US" sz="3800" spc="-1" strike="noStrike">
                <a:solidFill>
                  <a:srgbClr val="330033"/>
                </a:solidFill>
                <a:latin typeface="Times New Roman"/>
              </a:rPr>
              <a:t>Administration Questions</a:t>
            </a:r>
            <a:endParaRPr b="0" lang="en-US" sz="38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educational needs that have business implication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nature and cost of each feasible alternative to meet a given educational nee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ost effective means to provide an alternativ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ost-effectiveness of each alternativ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ve priority of each expendi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nergy and Resources</a:t>
            </a:r>
            <a:endParaRPr b="0" lang="en-US" sz="4200" spc="-1" strike="noStrike">
              <a:solidFill>
                <a:srgbClr val="330033"/>
              </a:solidFill>
              <a:latin typeface="Times New Roman"/>
            </a:endParaRPr>
          </a:p>
        </p:txBody>
      </p:sp>
      <p:sp>
        <p:nvSpPr>
          <p:cNvPr id="17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suppl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manage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upgrad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schem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reduc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upgr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Capital Asset Planning</a:t>
            </a:r>
            <a:br>
              <a:rPr sz="3800"/>
            </a:br>
            <a:r>
              <a:rPr b="0" lang="en-US" sz="3800" spc="-1" strike="noStrike">
                <a:solidFill>
                  <a:srgbClr val="330033"/>
                </a:solidFill>
                <a:latin typeface="Times New Roman"/>
              </a:rPr>
              <a:t>and Management</a:t>
            </a:r>
            <a:endParaRPr b="0" lang="en-US" sz="38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mprehensive Strategic Planning</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Procedur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ment of a shared vis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ulation of goal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data</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and evaluation of alternative means of goal assessmen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of a master pla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of goal achievemen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adjustments of master pla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sessment of go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ey Participants</a:t>
            </a:r>
            <a:endParaRPr b="0" lang="en-US" sz="4200" spc="-1" strike="noStrike">
              <a:solidFill>
                <a:srgbClr val="330033"/>
              </a:solidFill>
              <a:latin typeface="Times New Roman"/>
            </a:endParaRPr>
          </a:p>
        </p:txBody>
      </p:sp>
      <p:sp>
        <p:nvSpPr>
          <p:cNvPr id="18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ef administrato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y plann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and staff</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ing bod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ext Analysis</a:t>
            </a:r>
            <a:endParaRPr b="0" lang="en-US" sz="4200" spc="-1" strike="noStrike">
              <a:solidFill>
                <a:srgbClr val="330033"/>
              </a:solidFill>
              <a:latin typeface="Times New Roman"/>
            </a:endParaRPr>
          </a:p>
        </p:txBody>
      </p:sp>
      <p:sp>
        <p:nvSpPr>
          <p:cNvPr id="18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s and employ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re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valuation of Existing Facilities</a:t>
            </a:r>
            <a:endParaRPr b="0" lang="en-US" sz="4200" spc="-1" strike="noStrike">
              <a:solidFill>
                <a:srgbClr val="330033"/>
              </a:solidFill>
              <a:latin typeface="Times New Roman"/>
            </a:endParaRPr>
          </a:p>
        </p:txBody>
      </p:sp>
      <p:sp>
        <p:nvSpPr>
          <p:cNvPr id="1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and safe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adequac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al adequa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equence of Steps </a:t>
            </a:r>
            <a:br>
              <a:rPr sz="3800"/>
            </a:br>
            <a:r>
              <a:rPr b="0" lang="en-US" sz="3800" spc="-1" strike="noStrike">
                <a:solidFill>
                  <a:srgbClr val="330033"/>
                </a:solidFill>
                <a:latin typeface="Times New Roman"/>
              </a:rPr>
              <a:t>in Construction</a:t>
            </a:r>
            <a:endParaRPr b="0" lang="en-US" sz="3800" spc="-1" strike="noStrike">
              <a:solidFill>
                <a:srgbClr val="330033"/>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educational specificatio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rchitectural plans and specificatio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rchitectural plans and specificatio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cit competitive bid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 the contrac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construc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nd procure furniture and equipmen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ent and train faculty, staff, and student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py the facilit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post-occupancy eval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ducational Specifications</a:t>
            </a:r>
            <a:endParaRPr b="0" lang="en-US" sz="4200" spc="-1" strike="noStrike">
              <a:solidFill>
                <a:srgbClr val="330033"/>
              </a:solidFill>
              <a:latin typeface="Times New Roman"/>
            </a:endParaRPr>
          </a:p>
        </p:txBody>
      </p:sp>
      <p:sp>
        <p:nvSpPr>
          <p:cNvPr id="1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of tactical facility plann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the basic program outlin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quantitative requiremen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qualitative requiremen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ation of the written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BA Should Provide</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ucture in which qualified educational personnel identify and specify program need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program specifications, services, and materials for these need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utility or cost-effectiveness analyse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for procuring or providing appropriate personnel, material , and equipmen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performance and cost data for evalu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s for the modification of present programs and policies or propos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usiness Administration Functions</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ing and financial plann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ing an supply manage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 planning and construc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community relatio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l manageme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vice training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 and maintenance of pl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 servic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ing and reporting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rocessing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smanship</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 manage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resources manage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services for the distr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dressing Learning Theory</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vity of the leaning industry must be increase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measure of educational costs and effectiveness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is creating opportunities for cost-effective learning</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ovation in any component of the system requires modification of the whole syste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deregulation and decentralization are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scale technological change in education requires an environment of choice and competition to provide the payoff for productive innov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can lead to more successful implementation though better policy decis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18:02:15Z</dcterms:created>
  <dc:creator>AEURY</dc:creator>
  <dc:description/>
  <dc:language>en-US</dc:language>
  <cp:lastModifiedBy>AEURY</cp:lastModifiedBy>
  <dcterms:modified xsi:type="dcterms:W3CDTF">2007-06-13T18:15:24Z</dcterms:modified>
  <cp:revision>5</cp:revision>
  <dc:subject/>
  <dc:title>School Business Administration</dc:title>
</cp:coreProperties>
</file>